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5D3-A197-49B4-B5B0-21B1AC8A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45F-EA37-478F-AE82-4E4E1C6C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571-AD1B-4114-9A06-627318C4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191-EF97-48ED-8E14-E7D372B0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35C-2A48-4000-89B0-DFBEDBC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139-3624-409A-890C-55C81EE9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E64-71B2-48EB-B45E-A8057DEC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D27-3A40-4380-BB27-A056341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C78-2C1D-44CC-A6A3-4C455E5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514-AD00-4AD5-A816-DAAEE43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9D3-AB76-4AF4-97B4-12A80D47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3AB-98B8-4C1C-8566-A19ECCC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0BC-385D-49B0-9282-7A00D6FE512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85808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00000"/>
                </a:solidFill>
                <a:latin typeface="Comic Sans MS"/>
              </a:rPr>
              <a:t>Let’s get ready to rumble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fbfbf"/>
                </a:solidFill>
                <a:latin typeface="Comic Sans MS"/>
              </a:rPr>
              <a:t>Crocs and Din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ock Jams - Lets Get Ready To Rumble.mp3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0" spc="-1" strike="noStrike">
                <a:solidFill>
                  <a:srgbClr val="ff0000"/>
                </a:solidFill>
                <a:latin typeface="Comic Sans MS"/>
              </a:rPr>
              <a:t>went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u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a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da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g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up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ook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o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ik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ig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going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r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for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6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800" spc="-1" strike="noStrike">
                <a:solidFill>
                  <a:srgbClr val="ff0000"/>
                </a:solidFill>
                <a:latin typeface="Comic Sans MS"/>
              </a:rPr>
              <a:t>here</a:t>
            </a:r>
            <a:endParaRPr b="0" lang="en-US" sz="2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ai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u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mad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you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com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la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lnSpc>
                <a:spcPct val="100000"/>
              </a:lnSpc>
              <a:spcBef>
                <a:spcPts val="6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7800" spc="-1" strike="noStrike">
                <a:solidFill>
                  <a:srgbClr val="ff0000"/>
                </a:solidFill>
                <a:latin typeface="Comic Sans MS"/>
              </a:rPr>
              <a:t>have</a:t>
            </a:r>
            <a:endParaRPr b="0" lang="en-US" sz="27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a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aw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n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e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ll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9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500" spc="-1" strike="noStrike">
                <a:solidFill>
                  <a:srgbClr val="ff0000"/>
                </a:solidFill>
                <a:latin typeface="Comic Sans MS"/>
              </a:rPr>
              <a:t>home</a:t>
            </a:r>
            <a:endParaRPr b="0" lang="en-US" sz="2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as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h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o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8:38:51Z</dcterms:created>
  <dc:creator>Katie Goodridge</dc:creator>
  <dc:description/>
  <dc:language>en-US</dc:language>
  <cp:lastModifiedBy>Wendy Dorothy</cp:lastModifiedBy>
  <dcterms:modified xsi:type="dcterms:W3CDTF">2011-09-26T23:16:59Z</dcterms:modified>
  <cp:revision>15</cp:revision>
  <dc:subject/>
  <dc:title>Word Rumble</dc:title>
</cp:coreProperties>
</file>